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1DB-18F7-4DF9-A747-0707A3CA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568-CCA1-49BA-9852-23DDFC04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D24-B603-4D18-9C59-60EFD79F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3B9F-A7BE-45ED-8C65-DF10ADA2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5865-7D25-421D-9BF2-2E4C6237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CE37-6F5A-40CA-97E1-24ECA15A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6C10-7E54-4D69-A067-2A68EF91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E5F0-80FA-474B-AB96-92C1580F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A500-F62E-4A60-92B2-838E0A6B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9B56-2210-4DF5-8CD6-745FD0BD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BD1C-50A0-419C-8C98-C6D2E8B5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876-2472-459C-A8F1-E021167B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0C92-9D0D-4343-AA06-F7DA1085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EF9B-7217-4112-8B0D-549E7C0B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4985-6EE7-49E4-9F7A-5CBA807A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7AE5-D40A-4D35-95B3-32F5069D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D897-D9A0-4E75-8F64-1A234732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D23-E762-4F54-8754-A5A17DD2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9C4-65F5-4A1C-8933-134B2FD8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01C-E535-41B3-8375-C0DCD357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ED3-BE66-4D64-900D-AA6BEBFE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827-5A87-4C0E-81D0-E7193732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ED9-0C67-469C-A0B7-EF9B335B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700-25EC-4EFB-A425-64ED7BB3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DCC8-7283-4445-B601-30862C92F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59A7-78B3-433C-B546-9B63AF63A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en.wikipedia.org/wiki/Image:Staphylococcus_epidermidis_01.png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en.wikipedia.org/wiki/Staphylococcus_epidermidis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www2.niaid.nih.gov/Biodefense/Public/Images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medinfo.ufl.edu/year2/mmid/bms5300/bugs/saltyphi.html" TargetMode="External"/><Relationship Id="rId3" Type="http://schemas.openxmlformats.org/officeDocument/2006/relationships/hyperlink" Target="http://medinfo.ufl.edu/year2/mmid/bms5300/bugs/saltyphi.html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kcom.edu/.../lectures/lecture/reairin2.htm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Bacteria and Food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 is important in making foods such as milk, cheese &amp; yogu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names scientists assign to different types of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enus spe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reptococcus lac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these names can help us to find the shape of the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8120" y="304560"/>
            <a:ext cx="25905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gur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e A cultured nonfat m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y protein concen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tobacillus acidophi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starch 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ptococcus salivar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00800" y="3200400"/>
            <a:ext cx="1771560" cy="2695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5120" y="12556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gredie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Lactobacillus acidophilu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2759040" cy="3048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8880" y="617148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www.textbookofbacteriology.n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2562480" cy="2260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11400" y="5791320"/>
            <a:ext cx="58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http://www.amalteatechnology.com/img/lactobacillu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treptococcus salivariu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5560" y="6172200"/>
            <a:ext cx="55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http://atchimiebiologie.free.fr/yaourt/streptococcu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3448080" cy="2757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7120" y="5867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http://www.osel.cz/soubory/358/3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illus subtili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ly found in 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3517920"/>
            <a:ext cx="3581640" cy="2692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2763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phylococcus epidermid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ly found on your s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4095720" cy="2324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4720" y="533412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http://www.opt.pacificu.edu/ce/catalog/13036-AS/Fig%20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Scanning electron image of S. epidermidi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3352680"/>
            <a:ext cx="2286000" cy="1343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5120" y="609516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en.wikipedia.org/wiki/Staphylococcus_epidermidis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Escherichia coli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ly found in waste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3200400" cy="2689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36560" y="5866560"/>
            <a:ext cx="53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www2.niaid.nih.gov/Biodefense/Public/Images.htm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Salmonella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Typhi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ly found in waste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2810160" cy="3200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45480" y="6019920"/>
            <a:ext cx="49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medinfo.ufl.edu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/.../bms5300/bugs/saltyphi.html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962520" y="2819520"/>
            <a:ext cx="3581280" cy="2738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62320" y="6323760"/>
            <a:ext cx="49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www.kcom.edu/.../lectures/lecture/reairin2.htm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Enterococcus faecali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ly found in your intes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2300400" cy="2324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34360" y="6095880"/>
            <a:ext cx="70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http://www.textbookofbacteriology.net/nfStreptococcus_mutans.jp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269064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2:00:32Z</dcterms:created>
  <dc:creator>Kayla Shirley</dc:creator>
  <dc:description/>
  <dc:language>en-US</dc:language>
  <cp:lastModifiedBy>Teacher</cp:lastModifiedBy>
  <dcterms:modified xsi:type="dcterms:W3CDTF">2007-01-11T14:30:05Z</dcterms:modified>
  <cp:revision>8</cp:revision>
  <dc:subject/>
  <dc:title>Bacteria and Food </dc:title>
</cp:coreProperties>
</file>